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F7B-6570-47B7-9759-5E696F13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B56-A60C-4247-AC7F-77F6AA4D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8AE-23F9-4B8A-ABDB-8E91B5D4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9CA-3523-4449-821D-31209209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06DD-BE48-4043-BE27-BD857311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B4A9-4573-4DA1-80C3-0BFBF44F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E438-5727-4F0C-8E0E-6617183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E9C3-7572-4287-A218-C42ABFD6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8D7A-60E5-496D-9243-FEA60150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6358-9420-429F-A432-1EBE5DBD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5323-EC92-48CD-A70B-9A2C2E10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994-9147-4862-A983-7B7A3E77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7CB1-ED5F-4BF4-9B2B-E86F3FCD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53C8-95E2-466C-86A7-1B86FE4C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D781-5618-46C1-89A4-9CF84656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27B-C93B-4817-A38A-FB001786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2F2D-D742-4198-98F0-4F140C50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250-2C8D-4F0E-AC8A-E676DC44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AF7-92C0-4713-B1CB-E6A5ED1C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A7A-55C5-49B3-B661-86746FC7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AAC-74E1-4661-8DD3-D0AC1D31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7DA-D438-4B22-9185-7771D0E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B67-44BC-4F0D-8027-4AC3C9F7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3DF-040A-498F-9002-59CC4E93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DCDC-4C91-4FE8-9485-ACE941AD4A6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19E3-FAFB-47B6-A55E-038DE75BEC5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63200" cy="659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9"/>
          <p:cNvPicPr/>
          <p:nvPr/>
        </p:nvPicPr>
        <p:blipFill>
          <a:blip r:embed="rId2"/>
          <a:stretch/>
        </p:blipFill>
        <p:spPr>
          <a:xfrm>
            <a:off x="179280" y="4797360"/>
            <a:ext cx="2594160" cy="18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3"/>
          <p:cNvPicPr/>
          <p:nvPr/>
        </p:nvPicPr>
        <p:blipFill>
          <a:blip r:embed="rId3"/>
          <a:stretch/>
        </p:blipFill>
        <p:spPr>
          <a:xfrm>
            <a:off x="6516720" y="4797360"/>
            <a:ext cx="237492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10"/>
          <p:cNvPicPr/>
          <p:nvPr/>
        </p:nvPicPr>
        <p:blipFill>
          <a:blip r:embed="rId4"/>
          <a:stretch/>
        </p:blipFill>
        <p:spPr>
          <a:xfrm>
            <a:off x="3348000" y="4005360"/>
            <a:ext cx="273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4280" y="1071720"/>
            <a:ext cx="73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ые во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Содержимое 6"/>
          <p:cNvGraphicFramePr/>
          <p:nvPr/>
        </p:nvGraphicFramePr>
        <p:xfrm>
          <a:off x="395280" y="1557360"/>
          <a:ext cx="833112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33112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3"/>
          <p:cNvSpPr/>
          <p:nvPr/>
        </p:nvSpPr>
        <p:spPr>
          <a:xfrm>
            <a:off x="395280" y="1484280"/>
            <a:ext cx="8280360" cy="172872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0,1 тыс. рублей (41,4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Овал 3"/>
          <p:cNvSpPr/>
          <p:nvPr/>
        </p:nvSpPr>
        <p:spPr>
          <a:xfrm>
            <a:off x="1528920" y="1652760"/>
            <a:ext cx="6265800" cy="14414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ая эконом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270,8 тыс. рублей ( 93,7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Блок-схема: альтернативный процесс 16"/>
          <p:cNvSpPr/>
          <p:nvPr/>
        </p:nvSpPr>
        <p:spPr>
          <a:xfrm>
            <a:off x="108000" y="3357720"/>
            <a:ext cx="4968720" cy="12268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рожное хозяйств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дорожные фонд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 270,8 тыс. рублей (94,7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Прямая со стрелкой 22"/>
          <p:cNvCxnSpPr/>
          <p:nvPr/>
        </p:nvCxnSpPr>
        <p:spPr>
          <a:xfrm>
            <a:off x="4859280" y="3094200"/>
            <a:ext cx="1658160" cy="15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Блок-схема: альтернативный процесс 33"/>
          <p:cNvSpPr/>
          <p:nvPr/>
        </p:nvSpPr>
        <p:spPr>
          <a:xfrm>
            <a:off x="4500720" y="4653000"/>
            <a:ext cx="4370400" cy="198900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вопросы в области национальной экономики  0,0 тыс. рублей  (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34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71680" y="1214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эконо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Диаграмма 4"/>
          <p:cNvGraphicFramePr/>
          <p:nvPr/>
        </p:nvGraphicFramePr>
        <p:xfrm>
          <a:off x="1332000" y="1952640"/>
          <a:ext cx="619740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52640"/>
                    <a:ext cx="6197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 3"/>
          <p:cNvSpPr/>
          <p:nvPr/>
        </p:nvSpPr>
        <p:spPr>
          <a:xfrm>
            <a:off x="1403280" y="1125360"/>
            <a:ext cx="6265800" cy="14385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илищно-коммунальн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214,3тыс. рублей (36,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Блок-схема: альтернативный процесс 18"/>
          <p:cNvSpPr/>
          <p:nvPr/>
        </p:nvSpPr>
        <p:spPr>
          <a:xfrm>
            <a:off x="2771640" y="4221000"/>
            <a:ext cx="3888000" cy="2232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закупку энергетических ресурсов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82,9 тыс. рублей ( 50,9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Блок-схема: альтернативный процесс 33"/>
          <p:cNvSpPr/>
          <p:nvPr/>
        </p:nvSpPr>
        <p:spPr>
          <a:xfrm>
            <a:off x="5148360" y="2852640"/>
            <a:ext cx="2786040" cy="7444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Коммунальное хозяй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190,3 тыс. рублей ( 42,5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34"/>
          <p:cNvCxnSpPr>
            <a:stCxn id="130" idx="6"/>
            <a:endCxn id="132" idx="0"/>
          </p:cNvCxnSpPr>
          <p:nvPr/>
        </p:nvCxnSpPr>
        <p:spPr>
          <a:xfrm flipH="1">
            <a:off x="6541200" y="1844640"/>
            <a:ext cx="1127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Блок-схема: альтернативный процесс 52"/>
          <p:cNvSpPr/>
          <p:nvPr/>
        </p:nvSpPr>
        <p:spPr>
          <a:xfrm>
            <a:off x="395280" y="2708280"/>
            <a:ext cx="2787480" cy="9302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Благ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Times New Roman"/>
              </a:rPr>
              <a:t>24,0тыс. рублей (16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5" name="Прямая со стрелкой 53"/>
          <p:cNvCxnSpPr>
            <a:stCxn id="130" idx="4"/>
            <a:endCxn id="134" idx="0"/>
          </p:cNvCxnSpPr>
          <p:nvPr/>
        </p:nvCxnSpPr>
        <p:spPr>
          <a:xfrm flipH="1">
            <a:off x="1788480" y="2563560"/>
            <a:ext cx="27486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17415"/>
          <p:cNvCxnSpPr>
            <a:stCxn id="134" idx="2"/>
          </p:cNvCxnSpPr>
          <p:nvPr/>
        </p:nvCxnSpPr>
        <p:spPr>
          <a:xfrm>
            <a:off x="1788840" y="3638160"/>
            <a:ext cx="1080" cy="142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7" name="Соединительная линия уступом 19"/>
          <p:cNvCxnSpPr>
            <a:endCxn id="131" idx="3"/>
          </p:cNvCxnSpPr>
          <p:nvPr/>
        </p:nvCxnSpPr>
        <p:spPr>
          <a:xfrm rot="5400000">
            <a:off x="5955840" y="4348080"/>
            <a:ext cx="169272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8" name="Скругленный прямоугольник 1"/>
          <p:cNvSpPr/>
          <p:nvPr/>
        </p:nvSpPr>
        <p:spPr>
          <a:xfrm>
            <a:off x="395280" y="4076640"/>
            <a:ext cx="2305080" cy="273708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2737080"/>
              <a:gd name="textAreaBottom" fmla="*/ 2624760 h 2737080"/>
            </a:gdLst>
            <a:ahLst/>
            <a:rect l="textAreaLeft" t="textAreaTop" r="textAreaRight" b="textAreaBottom"/>
            <a:pathLst>
              <a:path w="21600" h="25647">
                <a:moveTo>
                  <a:pt x="3600" y="0"/>
                </a:moveTo>
                <a:arcTo wR="3600" hR="3600" stAng="16200000" swAng="-5400000"/>
                <a:lnTo>
                  <a:pt x="0" y="22047"/>
                </a:lnTo>
                <a:arcTo wR="3600" hR="3600" stAng="10800000" swAng="-5400000"/>
                <a:lnTo>
                  <a:pt x="18000" y="25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ходы на благоустройство территории Митякинского 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Прямая со стрелкой 4"/>
          <p:cNvCxnSpPr/>
          <p:nvPr/>
        </p:nvCxnSpPr>
        <p:spPr>
          <a:xfrm>
            <a:off x="1788840" y="3710160"/>
            <a:ext cx="1080" cy="367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258920" y="85716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лищно- коммунальное хозяй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Диаграмма 4"/>
          <p:cNvGraphicFramePr/>
          <p:nvPr/>
        </p:nvGraphicFramePr>
        <p:xfrm>
          <a:off x="306360" y="1298520"/>
          <a:ext cx="881388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98520"/>
                    <a:ext cx="881388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 3"/>
          <p:cNvSpPr/>
          <p:nvPr/>
        </p:nvSpPr>
        <p:spPr>
          <a:xfrm>
            <a:off x="1528920" y="1214280"/>
            <a:ext cx="6265800" cy="15717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ультура, кинематогра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2 736,6 тыс. рублей (43,9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Блок-схема: альтернативный процесс 16"/>
          <p:cNvSpPr/>
          <p:nvPr/>
        </p:nvSpPr>
        <p:spPr>
          <a:xfrm>
            <a:off x="3203640" y="2924280"/>
            <a:ext cx="2397240" cy="10713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736,6 тыс. рублей (43,9 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Прямая со стрелкой 22"/>
          <p:cNvCxnSpPr>
            <a:endCxn id="146" idx="0"/>
          </p:cNvCxnSpPr>
          <p:nvPr/>
        </p:nvCxnSpPr>
        <p:spPr>
          <a:xfrm flipH="1">
            <a:off x="4401360" y="2781000"/>
            <a:ext cx="26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Скругленный прямоугольник 13"/>
          <p:cNvSpPr/>
          <p:nvPr/>
        </p:nvSpPr>
        <p:spPr>
          <a:xfrm>
            <a:off x="1042920" y="4292640"/>
            <a:ext cx="7345440" cy="187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обеспечение деятельности (оказание услуг) муниципальных бюджетных учреждений Митякинского сельского поселения, в том числе на предоставление субсидий муниципальным бюджетным учреждениям Митякинского сельского поселения в рамках подпрограммы «Развитие культуры» муниципальной программы Митякинского сельского поселения «Развитие культур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736,6тыс. рублей ( 43,9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Прямая со стрелкой 24"/>
          <p:cNvCxnSpPr>
            <a:stCxn id="146" idx="2"/>
            <a:endCxn id="148" idx="0"/>
          </p:cNvCxnSpPr>
          <p:nvPr/>
        </p:nvCxnSpPr>
        <p:spPr>
          <a:xfrm>
            <a:off x="4401720" y="3995280"/>
            <a:ext cx="31500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785880" y="7650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льтура, кинематогра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Диаграмма 4"/>
          <p:cNvGraphicFramePr/>
          <p:nvPr/>
        </p:nvGraphicFramePr>
        <p:xfrm>
          <a:off x="-50760" y="1346040"/>
          <a:ext cx="9353520" cy="48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346040"/>
                    <a:ext cx="935352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84240" y="44280"/>
            <a:ext cx="903744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 «Митякинское сельское посел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за 2 квартал  2025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95280" y="1413000"/>
            <a:ext cx="842472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7.12.2024 № 38 «О бюджете Митякинского сельского  поселения Тарасовского района на 2025 год и на плановый период 2026 и 2027 годов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0.02.2025 №2 «О внесении изменений в решение Собрания депутатов Митякинского сельского поселения от 27.12.2024 № 38 «О бюджете Митякинского сельского  поселения Тарасовского района на 2025 год и на плановый период 2026 и 2027 годов»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5.05.2025 №7 «О внесении изменений в решение Собрания депутатов Митякинского сельского поселения от 27.12.2024 № 38 «О бюджете Митякинского сельского  поселения Тарасовского района на 2025 год и на плановый период 2026 и 2027 годов»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ктор экономики и финансов 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тяк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Митякинского сельского поселени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2025 год и на плановый период 2026 и 2027 г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000080"/>
          <a:ext cx="877248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  <a:gridCol w="2192400"/>
                <a:gridCol w="2193840"/>
              </a:tblGrid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79,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889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246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009,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889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246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129,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</a:tbl>
          </a:graphicData>
        </a:graphic>
      </p:graphicFrame>
      <p:sp>
        <p:nvSpPr>
          <p:cNvPr id="90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5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179280" y="5445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ое исполнение бюджета Митякинского сельского поселения за 2 квартал  2025 года составило по доходам в сумме 10 191,2 тыс. рублей (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,0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уточнённого плана) и по расходам в сумме 8 464,7 тыс. рублей (44,5 % от уточненного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доходам за 2 квартал 2025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785880"/>
          <a:ext cx="8642160" cy="5840280"/>
        </p:xfrm>
        <a:graphic>
          <a:graphicData uri="http://schemas.openxmlformats.org/drawingml/2006/table">
            <a:tbl>
              <a:tblPr/>
              <a:tblGrid>
                <a:gridCol w="5189400"/>
                <a:gridCol w="1266840"/>
                <a:gridCol w="1150920"/>
                <a:gridCol w="1035000"/>
              </a:tblGrid>
              <a:tr h="7110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5 г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1 квартал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4776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1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64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5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63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2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224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505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8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9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7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939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7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4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067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98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17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2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4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7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7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9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оугольник 3"/>
          <p:cNvGrpSpPr/>
          <p:nvPr/>
        </p:nvGrpSpPr>
        <p:grpSpPr>
          <a:xfrm>
            <a:off x="-122400" y="30240"/>
            <a:ext cx="9394920" cy="920520"/>
            <a:chOff x="-122400" y="30240"/>
            <a:chExt cx="9394920" cy="920520"/>
          </a:xfrm>
        </p:grpSpPr>
        <p:pic>
          <p:nvPicPr>
            <p:cNvPr id="95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2400" y="30240"/>
              <a:ext cx="9394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сновные направления по доходам за 2 квартал 2025 г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7" name="Диаграмма 3"/>
          <p:cNvGraphicFramePr/>
          <p:nvPr/>
        </p:nvGraphicFramePr>
        <p:xfrm>
          <a:off x="139680" y="1052640"/>
          <a:ext cx="8686800" cy="567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680" y="1052640"/>
                    <a:ext cx="8686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расходам за 2 квартал 2025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857160"/>
          <a:ext cx="8740800" cy="4141800"/>
        </p:xfrm>
        <a:graphic>
          <a:graphicData uri="http://schemas.openxmlformats.org/drawingml/2006/table">
            <a:tbl>
              <a:tblPr/>
              <a:tblGrid>
                <a:gridCol w="5257800"/>
                <a:gridCol w="431640"/>
                <a:gridCol w="314280"/>
                <a:gridCol w="289080"/>
                <a:gridCol w="936720"/>
                <a:gridCol w="934920"/>
                <a:gridCol w="57636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5 г.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 квартал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0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6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50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72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22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езервный фо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50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5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 (дорожные фонд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4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0200" y="260280"/>
          <a:ext cx="8804520" cy="35146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422280"/>
                <a:gridCol w="432000"/>
                <a:gridCol w="1028520"/>
                <a:gridCol w="934920"/>
                <a:gridCol w="486000"/>
              </a:tblGrid>
              <a:tr h="127800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5 г.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 квартал, 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707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03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10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09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660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3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3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07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3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03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  <a:tr h="2682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00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46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5"/>
          <p:cNvSpPr/>
          <p:nvPr/>
        </p:nvSpPr>
        <p:spPr>
          <a:xfrm>
            <a:off x="158760" y="12600"/>
            <a:ext cx="87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 2 квартал 2025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Содержимое 5"/>
          <p:cNvGraphicFramePr/>
          <p:nvPr/>
        </p:nvGraphicFramePr>
        <p:xfrm>
          <a:off x="568440" y="1919160"/>
          <a:ext cx="8331120" cy="48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1919160"/>
                    <a:ext cx="833112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714680" y="1071720"/>
            <a:ext cx="6002280" cy="14396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щегосударствен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4 068,0тыс. рублей (39,0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Блок-схема: альтернативный процесс 7"/>
          <p:cNvSpPr/>
          <p:nvPr/>
        </p:nvSpPr>
        <p:spPr>
          <a:xfrm>
            <a:off x="539640" y="2924280"/>
            <a:ext cx="2664000" cy="22017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 729,2тыс. рублей (39,2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Блок-схема: альтернативный процесс 8"/>
          <p:cNvSpPr/>
          <p:nvPr/>
        </p:nvSpPr>
        <p:spPr>
          <a:xfrm>
            <a:off x="6156360" y="2565360"/>
            <a:ext cx="2879640" cy="9716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общегосударственные вопр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38,8тыс. рублей (38,0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Блок-схема: процесс 11"/>
          <p:cNvSpPr/>
          <p:nvPr/>
        </p:nvSpPr>
        <p:spPr>
          <a:xfrm>
            <a:off x="3492360" y="5535720"/>
            <a:ext cx="2374920" cy="112212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ентральный аппара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 729,2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ыс. рублей (39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Прямая со стрелкой 14"/>
          <p:cNvCxnSpPr>
            <a:stCxn id="106" idx="4"/>
            <a:endCxn id="107" idx="0"/>
          </p:cNvCxnSpPr>
          <p:nvPr/>
        </p:nvCxnSpPr>
        <p:spPr>
          <a:xfrm flipH="1">
            <a:off x="1871280" y="2511000"/>
            <a:ext cx="2845440" cy="41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7"/>
          <p:cNvCxnSpPr>
            <a:stCxn id="106" idx="5"/>
            <a:endCxn id="108" idx="0"/>
          </p:cNvCxnSpPr>
          <p:nvPr/>
        </p:nvCxnSpPr>
        <p:spPr>
          <a:xfrm>
            <a:off x="6837480" y="2300400"/>
            <a:ext cx="7596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44"/>
          <p:cNvCxnSpPr>
            <a:stCxn id="107" idx="2"/>
            <a:endCxn id="109" idx="0"/>
          </p:cNvCxnSpPr>
          <p:nvPr/>
        </p:nvCxnSpPr>
        <p:spPr>
          <a:xfrm>
            <a:off x="1871280" y="5126040"/>
            <a:ext cx="280908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Home</cp:lastModifiedBy>
  <dcterms:modified xsi:type="dcterms:W3CDTF">2025-07-08T08:47:48Z</dcterms:modified>
  <cp:revision>39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